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403-1916-4D31-B110-1D8DDBB4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0C8-FC3B-476A-956F-24648D65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7FC-961B-4149-9FD7-820163B4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9F4-5503-440A-B9BF-915A0C44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B7C-8E27-4C85-869E-845E120B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A206-4AF7-4349-B5A8-8D32DFA9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2DA2-0358-4750-A97C-339DD6F9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CACB-EAF0-4A76-BCE9-8D6CC0F4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BA22-FF8C-4D6B-AEBF-27EC8EBA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7FED-CAFE-43E7-8C36-48D36060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F8F2-7165-4A87-A8ED-7C2FA225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902-4188-416F-BB7C-9A6FCA9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039C-1363-4886-9678-3672150F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CDEC-87C8-4A28-8CB5-ED97ECC4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D1CE-2DB1-4568-B1AC-576950FF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81C0-853A-451B-A61A-CD2EDAEC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FF45-1229-4705-B0E5-2EC8960B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2C7-E314-4047-BB61-7B740C3B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8E4-DC46-44A0-BD93-463FC50D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1D2-65AE-475D-B064-1249253D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72D-78F2-45C5-81A2-4B366D86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D1B-69B9-4278-89AD-FE8C86E0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A12-B1FB-48D6-BA2D-3E016C1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D83-9113-45A7-ABAA-A2D4D572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4744-F8EB-46A7-81DB-A43FA6A9DA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C471-2FF4-4CAF-85D9-AD387C8E0D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 положительных и отрицательных чис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4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896472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170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-2) ∙ 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-2) ∙ 3 = (-2) + (-2) + (-2)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∙ (-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ереместительному закону умножения (а∙в=в∙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 ∙  (-3) = (-3) ∙ 2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перемножить два числа с разными знаками, надо перемножить модули этих чисел и поставить перед полученным числом знак «минус»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-5) ∙ 3 = -(5 ∙ 3) = -15;     8 ∙ (-6) = -(8 ∙ 6) = -48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множение чисел с разными знака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33800" cy="554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325680" cy="225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4032360" cy="55436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0"/>
          <p:cNvSpPr/>
          <p:nvPr/>
        </p:nvSpPr>
        <p:spPr>
          <a:xfrm>
            <a:off x="4716360" y="1700280"/>
            <a:ext cx="33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  великий русский ученый, математик и механик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еонард Эйле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яснил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авило умножения отрицательных чисе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но следующ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но, что (-2)*3=(-6). Поэтому 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 не может быть равно (-6). Однако оно должно быть связано как-то с числом 6. Остается одна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1"/>
          <p:cNvSpPr/>
          <p:nvPr/>
        </p:nvSpPr>
        <p:spPr>
          <a:xfrm>
            <a:off x="2340000" y="213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900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им (-2)∙(-3)=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получим (-6) или 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24720" cy="165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угой способ доказать, что  (-3)*(-2)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изменении знака любого множителя знак произведения меняется, а модуль остается тот же. А если меняется знак у обоих множителей, то в этом случае знак изменится дважды, то есть результат останется без измен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 ∙ 3 = 6;      -2 ∙ 3 = -6;     (-2) ∙ (-3) = -(-6) =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перемножить два отрицательных числа, надо перемножить их моду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5) ∙ (-3) = 5 ∙ 3 = 15;     -10 ∙ (-7) = 10 ∙ 7 = 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4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424720" cy="165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им данные правила, решая практические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7071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выш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16360" y="508464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* 3 = 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7440" y="378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1413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19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-36360" y="364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0" y="4149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684360" y="234936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649440" y="397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 flipV="1">
            <a:off x="1258920" y="285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V="1">
            <a:off x="125892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 flipV="1">
            <a:off x="1258920" y="1773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684360" y="292428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0920" y="198900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71640" y="5373720"/>
            <a:ext cx="44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3 = -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8" name="Group 32"/>
          <p:cNvGrpSpPr/>
          <p:nvPr/>
        </p:nvGrpSpPr>
        <p:grpSpPr>
          <a:xfrm>
            <a:off x="0" y="378000"/>
            <a:ext cx="1584360" cy="6480000"/>
            <a:chOff x="0" y="378000"/>
            <a:chExt cx="1584360" cy="6480000"/>
          </a:xfrm>
        </p:grpSpPr>
        <p:sp>
          <p:nvSpPr>
            <p:cNvPr id="149" name="Freeform 5"/>
            <p:cNvSpPr/>
            <p:nvPr/>
          </p:nvSpPr>
          <p:spPr>
            <a:xfrm>
              <a:off x="82404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21744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21744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21744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21744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08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21744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7308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7308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7308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7308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7308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64908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72216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64908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>
              <a:off x="64908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64908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>
              <a:off x="64908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>
              <a:off x="64908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64908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64908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64908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4908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8"/>
            <p:cNvSpPr/>
            <p:nvPr/>
          </p:nvSpPr>
          <p:spPr>
            <a:xfrm>
              <a:off x="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9"/>
            <p:cNvSpPr/>
            <p:nvPr/>
          </p:nvSpPr>
          <p:spPr>
            <a:xfrm>
              <a:off x="64764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33"/>
          <p:cNvSpPr/>
          <p:nvPr/>
        </p:nvSpPr>
        <p:spPr>
          <a:xfrm flipV="1">
            <a:off x="125892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 flipV="1">
            <a:off x="1258920" y="4005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 flipV="1">
            <a:off x="1258920" y="508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34920" y="1989000"/>
            <a:ext cx="71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2 градуса. Сейчас термометр показывает 0 градусов. Какую температуру воздуха показывал термометр 3 часа назад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11280" y="5300640"/>
            <a:ext cx="51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f0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(-3) = 6</a:t>
            </a:r>
            <a:endParaRPr b="1" lang="en-US" sz="1800" spc="1" strike="noStrike">
              <a:ln w="12600">
                <a:solidFill>
                  <a:srgbClr val="ffcf0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50920" y="404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17440" y="1386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17440" y="1962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73080" y="3618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3080" y="4122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684360" y="23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755640" y="393372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682560" y="29242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V="1">
            <a:off x="118728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 flipV="1">
            <a:off x="1187280" y="184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18728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2936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1403280" y="1125360"/>
            <a:ext cx="678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авила  знаков при  умнож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+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–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–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+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4:15:15Z</dcterms:created>
  <dc:creator>Мелкомуковы</dc:creator>
  <dc:description/>
  <dc:language>en-US</dc:language>
  <cp:lastModifiedBy>Мелкомуковы</cp:lastModifiedBy>
  <dcterms:modified xsi:type="dcterms:W3CDTF">2012-03-05T15:58:54Z</dcterms:modified>
  <cp:revision>6</cp:revision>
  <dc:subject/>
  <dc:title>Умножение положительных и отрицательных чисел</dc:title>
</cp:coreProperties>
</file>